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A5B-B506-4E08-B433-B02D7077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4B6-16CB-4DD9-B173-DE2BD977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AD7-D975-485D-BB95-F30ABB49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3D6-877F-4592-B38A-E87A0285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56E7-4084-4E47-88F4-13B49429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BE9E-C397-4EF8-8403-C000CF5E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87D-4E28-45D9-883C-7ECF06EC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41B3-0454-463B-B404-E7366BB3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7056-A352-4685-BA04-538DD041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41D6-2627-4AD9-88D9-5192961F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7196-8D13-4BF1-8A00-23BFD15C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7E0-29DE-438D-A8B2-4CAB2F65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3869-2882-463F-8797-B843232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30F4-73F9-4CB4-9D12-4C0D6F49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CDBC-F095-4285-B823-544B23E6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BC40-F2C5-4238-84EB-4F071538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D152-8F80-487B-BE8B-1072DF26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772B-4DB4-4BB5-B984-B3073059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7235-51DA-4735-BF38-02BF3DD4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4DF9-38A4-4299-A4D3-C23703C1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4C22-5CA5-4D94-8DF2-88EB8FA0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2261-AAEC-41C7-B8F3-7646BD9B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24E-FC11-40C0-A677-83154FB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2A3B-0DA2-4540-AFE4-45B107F2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25FDD-58AB-4D33-AA86-E86CEDE8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916C-049F-4DB3-B2E6-C6A4449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8826-D8A0-4407-B769-B3DF7C2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3E49-9E3A-4369-9A47-E39F5D5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B44B6-33A1-4ACA-9946-00FA334B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E949-65E7-4DC5-8FD9-0915E214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EC9-9DC4-4892-836F-A38F795E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761-5775-4C11-BC4C-C7E64C43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4AF-F008-426E-9F7B-D9D6D5BD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E9D-A61A-4FAA-B26E-3107636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DDC-0CCE-4F16-8078-D53A0C6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4A7-B871-4D19-A3B0-266C83D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475C-8F63-4804-9C9C-F1BF5D53375D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BAAE-F781-4DEF-8848-6FA41A27953E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4E4B-F936-4E2B-9A6E-663C97B6FFB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7344360"/>
            <a:ext cx="298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0" name="Picture 2" descr="C:\Users\User\Desktop\148211_max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80" y="47628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br>
              <a:rPr sz="6500"/>
            </a:br>
            <a:br>
              <a:rPr sz="6500"/>
            </a:br>
            <a:r>
              <a:rPr b="1" i="1" lang="ru-RU" sz="6500" spc="-1" strike="noStrike">
                <a:solidFill>
                  <a:srgbClr val="002060"/>
                </a:solidFill>
                <a:latin typeface="Comic Sans MS"/>
              </a:rPr>
              <a:t>ОБОБЩЕНИЕ </a:t>
            </a:r>
            <a:br>
              <a:rPr sz="6500"/>
            </a:br>
            <a:r>
              <a:rPr b="1" i="1" lang="ru-RU" sz="6500" spc="-1" strike="noStrike">
                <a:solidFill>
                  <a:srgbClr val="002060"/>
                </a:solidFill>
                <a:latin typeface="Comic Sans MS"/>
              </a:rPr>
              <a:t>ПО ТЕМЕ </a:t>
            </a:r>
            <a:br>
              <a:rPr sz="6500"/>
            </a:br>
            <a:r>
              <a:rPr b="1" i="1" lang="ru-RU" sz="6500" spc="-1" strike="noStrike">
                <a:solidFill>
                  <a:srgbClr val="002060"/>
                </a:solidFill>
                <a:latin typeface="Comic Sans MS"/>
              </a:rPr>
              <a:t>«ИСТОЧНИКИ ГЕОГРАФИЧЕСКОЙ ИНФОРМАЦИИ»</a:t>
            </a:r>
            <a:endParaRPr b="0" lang="en-US" sz="6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63280" y="3213000"/>
            <a:ext cx="554508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66ff"/>
              </a:solidFill>
              <a:latin typeface="Comic Sans MS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5580000" y="1268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08000" y="0"/>
            <a:ext cx="903600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Найди ошиб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Летом в подмосковном туристическом лагере у нас состоялся поход. Мы вышли около 12 часов дня, и пошли по азимуту 180° в северном направлении. Яркое солнце светило нам в глаза, и вожатый свернул в хвойный лес. В лесу было прохладно, влажный  мох покрывал стволы гигантских берёз с южной стороны и уходил далеко вверх по стволу. Мы пошли по лесной тропинке, которая шла на запад. Азимут движения был равен 85°. Вожатый объявил, что первый привал будет рядом с избушкой лесника. Судя по карте, на которой она была обозначена чёрным треугольником, до неё уже было недалеко. Чуть в стороне от избушки значком красного цвета, напоминающим своей формой головастика, был обозначен колодец. Мы подошли к нему набрать воды. Дальше тропинка шла по лугу вдоль берега речки, низкого и пологого отмеченного синей штриховкой. Тропинка привела нас к большой поляне с часовней. Она была построена над родником, который являлся началом крупного притока Оки. Эта поляна с устьем реки и была целью нашего пох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User\Desktop\72965708_1301760145_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9640" y="243000"/>
            <a:ext cx="82803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Работа в групп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1.Создание маршру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431a"/>
                </a:solidFill>
                <a:latin typeface="Times New Roman"/>
              </a:rPr>
              <a:t>2.Защита проект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ишите свой маршрут, ответив на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Определите, с какого населенного пункта начинался ваш маршр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Что вы встретили на своём пу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Определите, у берегов,  какой реки  завершился ваш туристический маршр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Отметьте  опасные места вашего маршрута (крестиком),  на которых нужно быть особенно внимательны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79280" y="260280"/>
            <a:ext cx="8856720" cy="70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Закончите предложения, вставляя пропущенные слов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Каждая точка на земной поверхности имеет свою…………. и ………………., которыми определяют ее точное положение на Земл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мая длинная параллель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)Угол, между направлением на север и направлением на объект называют……………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4)Географическую широту отсчитывают от……………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меньшенное изображение земного шара на плоскости, называется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6) Градусную сетку образуют…………и 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611280" y="150840"/>
            <a:ext cx="79930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Работа в групп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1.Создание маршру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431a"/>
                </a:solidFill>
                <a:latin typeface="Times New Roman"/>
              </a:rPr>
              <a:t>2.Защита проекта</a:t>
            </a:r>
            <a:r>
              <a:rPr b="0" lang="ru-RU" sz="3200" spc="-1" strike="noStrike">
                <a:solidFill>
                  <a:srgbClr val="a6431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ишите свой маршрут, ответив на вопро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Определите, с какого населенного пункта начинался ваш маршр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Что вы встретили на своём пу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Определите, у берегов,  какой реки  завершился ваш туристический маршр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Отметьте  опасные места вашего маршрута (крестиком),  на которых нужно быть особенно внимательны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250920" y="404640"/>
            <a:ext cx="8353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Лист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Знаете ли вы, что такое азимут  - 1 б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Знаете ли вы, что такое масштаб  – 1 б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Знаете ли вы, что такое координаты?- 1 б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Знаете ли вы что такое план местности и условные знаки ?    -1 б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Умеете ли вы применить азимут – 1 б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Умеете ли вы применять масштаб - 1 б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Умеете ли вы определять координаты – 1 б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Умеете ли вы работать с планом местности и определять условные знаки – 1 б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-7 баллов  – «5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-5 баллов – «4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 балла -  «3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User\Desktop\tent-05.jpg"/>
          <p:cNvPicPr/>
          <p:nvPr/>
        </p:nvPicPr>
        <p:blipFill>
          <a:blip r:embed="rId1"/>
          <a:stretch/>
        </p:blipFill>
        <p:spPr>
          <a:xfrm>
            <a:off x="-334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5:32:11Z</dcterms:created>
  <dc:creator>user1</dc:creator>
  <dc:description/>
  <dc:language>en-US</dc:language>
  <cp:lastModifiedBy>Галина Наумова</cp:lastModifiedBy>
  <dcterms:modified xsi:type="dcterms:W3CDTF">2021-11-02T13:29:42Z</dcterms:modified>
  <cp:revision>34</cp:revision>
  <dc:subject/>
  <dc:title>Презентация PowerPoint</dc:title>
</cp:coreProperties>
</file>